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AA74-C9B1-4012-AD15-EFFEA6F3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0080-7175-46C3-A0F7-6F28CC59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487F-B547-4524-99EA-76B01D80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221E-123F-4480-AA42-7E207FF5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CF59-21EF-4698-ADAC-62D76C62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E609-438D-48CD-88B9-0CCE38FF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FAAE-26E2-4168-9719-861887EE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3EA4-D201-40A8-81E6-D0A8AAFB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5385-AD90-475A-A76A-BB3DC99E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0636-8FDD-4073-A8A5-C7FD1507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D28B-86E1-4A95-B252-83C7F90E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3D37-2C7C-4DDF-97DF-F696159E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C474-5575-4168-BA61-B1B1484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A449-1334-4995-B3F1-4BD3E98C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A2F3-69BA-49ED-AF55-6FFB2BD1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171A-BF9E-44D6-B657-1AAB497D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055C-F476-4149-9BA8-C864C52D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89A9-E9AC-424A-A428-6A545812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9EC9-6109-4DF2-834C-02433414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6C6D-9E0D-4BB7-90DB-01DB0F2D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5E28-15E0-47F0-A006-64550232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7540-5CD6-4684-8937-02D072FC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F4FD-5F61-46FC-A249-734B0EA6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B3E2-4C59-4025-8ED6-29D16B7D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F0A3-7F24-42FC-A8E3-B3006F3EF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0CCC-C77D-402A-9943-DA3E41AC6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fai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air is a polygraphic method designed to invalidate single frequency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5 x 5 matrix of letters (j is not used) arranged by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keyword is harpsicord, the matrix ke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992600" y="4933800"/>
            <a:ext cx="1338840" cy="278280"/>
            <a:chOff x="1992600" y="4933800"/>
            <a:chExt cx="1338840" cy="278280"/>
          </a:xfrm>
        </p:grpSpPr>
        <p:grpSp>
          <p:nvGrpSpPr>
            <p:cNvPr id="116" name=""/>
            <p:cNvGrpSpPr/>
            <p:nvPr/>
          </p:nvGrpSpPr>
          <p:grpSpPr>
            <a:xfrm>
              <a:off x="2792880" y="4933800"/>
              <a:ext cx="272160" cy="278280"/>
              <a:chOff x="2792880" y="4933800"/>
              <a:chExt cx="272160" cy="278280"/>
            </a:xfrm>
          </p:grpSpPr>
          <p:sp>
            <p:nvSpPr>
              <p:cNvPr id="117" name=""/>
              <p:cNvSpPr/>
              <p:nvPr/>
            </p:nvSpPr>
            <p:spPr>
              <a:xfrm>
                <a:off x="279720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928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26120" y="4933800"/>
              <a:ext cx="272160" cy="278280"/>
              <a:chOff x="2526120" y="4933800"/>
              <a:chExt cx="272160" cy="278280"/>
            </a:xfrm>
          </p:grpSpPr>
          <p:sp>
            <p:nvSpPr>
              <p:cNvPr id="120" name=""/>
              <p:cNvSpPr/>
              <p:nvPr/>
            </p:nvSpPr>
            <p:spPr>
              <a:xfrm>
                <a:off x="253044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61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68720" y="4933800"/>
              <a:ext cx="272160" cy="278280"/>
              <a:chOff x="2268720" y="4933800"/>
              <a:chExt cx="272160" cy="2782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304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687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92600" y="4933800"/>
              <a:ext cx="272160" cy="278280"/>
              <a:chOff x="1992600" y="4933800"/>
              <a:chExt cx="272160" cy="2782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9692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9260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59280" y="4933800"/>
              <a:ext cx="272160" cy="278280"/>
              <a:chOff x="3059280" y="4933800"/>
              <a:chExt cx="272160" cy="27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306360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92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992600" y="5200560"/>
            <a:ext cx="1338840" cy="278280"/>
            <a:chOff x="1992600" y="5200560"/>
            <a:chExt cx="1338840" cy="278280"/>
          </a:xfrm>
        </p:grpSpPr>
        <p:grpSp>
          <p:nvGrpSpPr>
            <p:cNvPr id="132" name=""/>
            <p:cNvGrpSpPr/>
            <p:nvPr/>
          </p:nvGrpSpPr>
          <p:grpSpPr>
            <a:xfrm>
              <a:off x="2792880" y="5200560"/>
              <a:ext cx="272160" cy="278280"/>
              <a:chOff x="2792880" y="5200560"/>
              <a:chExt cx="272160" cy="27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79720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928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526120" y="5200560"/>
              <a:ext cx="272160" cy="278280"/>
              <a:chOff x="2526120" y="5200560"/>
              <a:chExt cx="272160" cy="27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53044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61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720" y="5200560"/>
              <a:ext cx="272160" cy="278280"/>
              <a:chOff x="2268720" y="5200560"/>
              <a:chExt cx="272160" cy="27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27304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87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92600" y="5200560"/>
              <a:ext cx="272160" cy="278280"/>
              <a:chOff x="1992600" y="5200560"/>
              <a:chExt cx="272160" cy="27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99692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9260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059280" y="5200560"/>
              <a:ext cx="272160" cy="278280"/>
              <a:chOff x="3059280" y="5200560"/>
              <a:chExt cx="272160" cy="27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06360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992600" y="5467320"/>
            <a:ext cx="1338840" cy="277920"/>
            <a:chOff x="1992600" y="5467320"/>
            <a:chExt cx="1338840" cy="277920"/>
          </a:xfrm>
        </p:grpSpPr>
        <p:grpSp>
          <p:nvGrpSpPr>
            <p:cNvPr id="148" name=""/>
            <p:cNvGrpSpPr/>
            <p:nvPr/>
          </p:nvGrpSpPr>
          <p:grpSpPr>
            <a:xfrm>
              <a:off x="2792880" y="5467320"/>
              <a:ext cx="272160" cy="277920"/>
              <a:chOff x="2792880" y="5467320"/>
              <a:chExt cx="272160" cy="277920"/>
            </a:xfrm>
          </p:grpSpPr>
          <p:sp>
            <p:nvSpPr>
              <p:cNvPr id="149" name=""/>
              <p:cNvSpPr/>
              <p:nvPr/>
            </p:nvSpPr>
            <p:spPr>
              <a:xfrm>
                <a:off x="279720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928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26120" y="5467320"/>
              <a:ext cx="272160" cy="277920"/>
              <a:chOff x="2526120" y="5467320"/>
              <a:chExt cx="272160" cy="277920"/>
            </a:xfrm>
          </p:grpSpPr>
          <p:sp>
            <p:nvSpPr>
              <p:cNvPr id="152" name=""/>
              <p:cNvSpPr/>
              <p:nvPr/>
            </p:nvSpPr>
            <p:spPr>
              <a:xfrm>
                <a:off x="253044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261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68720" y="5467320"/>
              <a:ext cx="272160" cy="277920"/>
              <a:chOff x="2268720" y="5467320"/>
              <a:chExt cx="272160" cy="277920"/>
            </a:xfrm>
          </p:grpSpPr>
          <p:sp>
            <p:nvSpPr>
              <p:cNvPr id="155" name=""/>
              <p:cNvSpPr/>
              <p:nvPr/>
            </p:nvSpPr>
            <p:spPr>
              <a:xfrm>
                <a:off x="227304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687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992600" y="5467320"/>
              <a:ext cx="272160" cy="277920"/>
              <a:chOff x="1992600" y="5467320"/>
              <a:chExt cx="272160" cy="277920"/>
            </a:xfrm>
          </p:grpSpPr>
          <p:sp>
            <p:nvSpPr>
              <p:cNvPr id="158" name=""/>
              <p:cNvSpPr/>
              <p:nvPr/>
            </p:nvSpPr>
            <p:spPr>
              <a:xfrm>
                <a:off x="199692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9260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059280" y="5467320"/>
              <a:ext cx="272160" cy="277920"/>
              <a:chOff x="3059280" y="5467320"/>
              <a:chExt cx="272160" cy="27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306360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92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992600" y="5734080"/>
            <a:ext cx="1338840" cy="277920"/>
            <a:chOff x="1992600" y="5734080"/>
            <a:chExt cx="1338840" cy="277920"/>
          </a:xfrm>
        </p:grpSpPr>
        <p:grpSp>
          <p:nvGrpSpPr>
            <p:cNvPr id="164" name=""/>
            <p:cNvGrpSpPr/>
            <p:nvPr/>
          </p:nvGrpSpPr>
          <p:grpSpPr>
            <a:xfrm>
              <a:off x="2792880" y="5734080"/>
              <a:ext cx="272160" cy="277920"/>
              <a:chOff x="2792880" y="5734080"/>
              <a:chExt cx="272160" cy="277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79720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928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26120" y="5734080"/>
              <a:ext cx="272160" cy="277920"/>
              <a:chOff x="2526120" y="5734080"/>
              <a:chExt cx="272160" cy="27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253044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261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268720" y="5734080"/>
              <a:ext cx="272160" cy="277920"/>
              <a:chOff x="2268720" y="5734080"/>
              <a:chExt cx="272160" cy="27792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304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687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992600" y="5734080"/>
              <a:ext cx="272160" cy="277920"/>
              <a:chOff x="1992600" y="5734080"/>
              <a:chExt cx="272160" cy="2779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9692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9260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59280" y="5734080"/>
              <a:ext cx="272160" cy="277920"/>
              <a:chOff x="3059280" y="573408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6360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92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992600" y="5991120"/>
            <a:ext cx="1338840" cy="278280"/>
            <a:chOff x="1992600" y="5991120"/>
            <a:chExt cx="1338840" cy="278280"/>
          </a:xfrm>
        </p:grpSpPr>
        <p:grpSp>
          <p:nvGrpSpPr>
            <p:cNvPr id="180" name=""/>
            <p:cNvGrpSpPr/>
            <p:nvPr/>
          </p:nvGrpSpPr>
          <p:grpSpPr>
            <a:xfrm>
              <a:off x="2792880" y="5991120"/>
              <a:ext cx="272160" cy="278280"/>
              <a:chOff x="2792880" y="5991120"/>
              <a:chExt cx="272160" cy="27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79720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28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526120" y="5991120"/>
              <a:ext cx="272160" cy="278280"/>
              <a:chOff x="2526120" y="5991120"/>
              <a:chExt cx="272160" cy="27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3044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261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68720" y="5991120"/>
              <a:ext cx="272160" cy="278280"/>
              <a:chOff x="2268720" y="5991120"/>
              <a:chExt cx="272160" cy="27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227304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687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992600" y="5991120"/>
              <a:ext cx="272160" cy="278280"/>
              <a:chOff x="1992600" y="5991120"/>
              <a:chExt cx="272160" cy="27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199692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260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59280" y="5991120"/>
              <a:ext cx="272160" cy="278280"/>
              <a:chOff x="3059280" y="5991120"/>
              <a:chExt cx="272160" cy="27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06360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592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3598560" y="5227560"/>
            <a:ext cx="511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E:  the second R in harpsic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9398-4CA9-4906-A89A-96B8A88DAF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xt is pre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’s are replaced with i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ll letter such as q is placed between any identical pairs of letters so that “tt” becomes “tq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laintext has an odd number of letters, the null letter is added on to the e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text is produced by looking at each pair of letters in the plaintext 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row in the key matrix, then they are replaced by the characters to their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column then they are replaced by the letters below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different rows and columns then they are replaced by the letters found on the other two corners of a rectangle formed by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2B6F-6D96-4519-B67C-92368E067B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836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letter pair: “RE”  becomes “EB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rows circle back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selves so the letter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Q” becomes “M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201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6488280" y="4821120"/>
            <a:ext cx="280800" cy="284400"/>
            <a:chOff x="6488280" y="4821120"/>
            <a:chExt cx="280800" cy="284400"/>
          </a:xfrm>
        </p:grpSpPr>
        <p:sp>
          <p:nvSpPr>
            <p:cNvPr id="282" name=""/>
            <p:cNvSpPr/>
            <p:nvPr/>
          </p:nvSpPr>
          <p:spPr>
            <a:xfrm>
              <a:off x="650232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828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480" y="4287960"/>
            <a:ext cx="280800" cy="283680"/>
            <a:chOff x="5964480" y="4287960"/>
            <a:chExt cx="280800" cy="283680"/>
          </a:xfrm>
        </p:grpSpPr>
        <p:sp>
          <p:nvSpPr>
            <p:cNvPr id="285" name=""/>
            <p:cNvSpPr/>
            <p:nvPr/>
          </p:nvSpPr>
          <p:spPr>
            <a:xfrm>
              <a:off x="597852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448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97720" y="4287960"/>
            <a:ext cx="280800" cy="283680"/>
            <a:chOff x="5697720" y="4287960"/>
            <a:chExt cx="280800" cy="283680"/>
          </a:xfrm>
        </p:grpSpPr>
        <p:sp>
          <p:nvSpPr>
            <p:cNvPr id="288" name=""/>
            <p:cNvSpPr/>
            <p:nvPr/>
          </p:nvSpPr>
          <p:spPr>
            <a:xfrm>
              <a:off x="57117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77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421600" y="4830840"/>
            <a:ext cx="280800" cy="283680"/>
            <a:chOff x="5421600" y="4830840"/>
            <a:chExt cx="280800" cy="283680"/>
          </a:xfrm>
        </p:grpSpPr>
        <p:sp>
          <p:nvSpPr>
            <p:cNvPr id="291" name=""/>
            <p:cNvSpPr/>
            <p:nvPr/>
          </p:nvSpPr>
          <p:spPr>
            <a:xfrm>
              <a:off x="543564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60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958000" y="4281480"/>
            <a:ext cx="280800" cy="283680"/>
            <a:chOff x="5958000" y="4281480"/>
            <a:chExt cx="280800" cy="283680"/>
          </a:xfrm>
        </p:grpSpPr>
        <p:sp>
          <p:nvSpPr>
            <p:cNvPr id="294" name=""/>
            <p:cNvSpPr/>
            <p:nvPr/>
          </p:nvSpPr>
          <p:spPr>
            <a:xfrm>
              <a:off x="5972040" y="42987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8000" y="4281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1520" y="4287960"/>
            <a:ext cx="280800" cy="283680"/>
            <a:chOff x="6221520" y="4287960"/>
            <a:chExt cx="280800" cy="283680"/>
          </a:xfrm>
        </p:grpSpPr>
        <p:sp>
          <p:nvSpPr>
            <p:cNvPr id="297" name=""/>
            <p:cNvSpPr/>
            <p:nvPr/>
          </p:nvSpPr>
          <p:spPr>
            <a:xfrm>
              <a:off x="62355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15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21600" y="4821120"/>
            <a:ext cx="280800" cy="284400"/>
            <a:chOff x="5421600" y="4821120"/>
            <a:chExt cx="280800" cy="284400"/>
          </a:xfrm>
        </p:grpSpPr>
        <p:sp>
          <p:nvSpPr>
            <p:cNvPr id="300" name=""/>
            <p:cNvSpPr/>
            <p:nvPr/>
          </p:nvSpPr>
          <p:spPr>
            <a:xfrm>
              <a:off x="543564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160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697720" y="4830840"/>
            <a:ext cx="280800" cy="283680"/>
            <a:chOff x="5697720" y="4830840"/>
            <a:chExt cx="280800" cy="283680"/>
          </a:xfrm>
        </p:grpSpPr>
        <p:sp>
          <p:nvSpPr>
            <p:cNvPr id="303" name=""/>
            <p:cNvSpPr/>
            <p:nvPr/>
          </p:nvSpPr>
          <p:spPr>
            <a:xfrm>
              <a:off x="571176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772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DD5D-8107-4D14-9CE1-7AE7DA2133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02604 -4.44444E-006 E">
                                      <p:cBhvr>
                                        <p:cTn id="49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2812 -3.33333E-006 E">
                                      <p:cBhvr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11111E-006 L 0.03021 -1.11111E-006 E">
                                      <p:cBhvr>
                                        <p:cTn id="73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-0.03073 -0.04931 C -0.03733 -0.06042 -0.04688 -0.06644 -0.05695 -0.06644 C -0.06841 -0.06644 -0.07743 -0.06042 -0.08403 -0.04931 L -0.11459 4.44444E-006 E">
                                      <p:cBhvr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 using the keyword array formed from “softwa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intext letter pair “AL” becomes “D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olumns circle b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mselves, the let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“TY” becomes “B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0960" y="4594320"/>
            <a:ext cx="1338840" cy="1334880"/>
            <a:chOff x="5430960" y="4594320"/>
            <a:chExt cx="1338840" cy="1334880"/>
          </a:xfrm>
        </p:grpSpPr>
        <p:grpSp>
          <p:nvGrpSpPr>
            <p:cNvPr id="308" name=""/>
            <p:cNvGrpSpPr/>
            <p:nvPr/>
          </p:nvGrpSpPr>
          <p:grpSpPr>
            <a:xfrm>
              <a:off x="5430960" y="4594320"/>
              <a:ext cx="1338840" cy="277920"/>
              <a:chOff x="5430960" y="4594320"/>
              <a:chExt cx="1338840" cy="2779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31240" y="4594320"/>
                <a:ext cx="272160" cy="277920"/>
                <a:chOff x="6231240" y="4594320"/>
                <a:chExt cx="272160" cy="277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23556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312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64480" y="4594320"/>
                <a:ext cx="272160" cy="277920"/>
                <a:chOff x="5964480" y="4594320"/>
                <a:chExt cx="272160" cy="277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96880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644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07080" y="4594320"/>
                <a:ext cx="272160" cy="277920"/>
                <a:chOff x="5707080" y="4594320"/>
                <a:chExt cx="272160" cy="2779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140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070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30960" y="4594320"/>
                <a:ext cx="272160" cy="277920"/>
                <a:chOff x="5430960" y="4594320"/>
                <a:chExt cx="272160" cy="2779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43528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3096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497640" y="4594320"/>
                <a:ext cx="272160" cy="277920"/>
                <a:chOff x="6497640" y="4594320"/>
                <a:chExt cx="272160" cy="2779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50196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4976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430960" y="4860720"/>
              <a:ext cx="1338840" cy="277920"/>
              <a:chOff x="5430960" y="4860720"/>
              <a:chExt cx="1338840" cy="277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231240" y="4860720"/>
                <a:ext cx="272160" cy="277920"/>
                <a:chOff x="6231240" y="4860720"/>
                <a:chExt cx="272160" cy="27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3556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312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964480" y="4860720"/>
                <a:ext cx="272160" cy="277920"/>
                <a:chOff x="5964480" y="4860720"/>
                <a:chExt cx="272160" cy="2779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96880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44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707080" y="4860720"/>
                <a:ext cx="272160" cy="277920"/>
                <a:chOff x="5707080" y="4860720"/>
                <a:chExt cx="272160" cy="277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71140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070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430960" y="4860720"/>
                <a:ext cx="272160" cy="277920"/>
                <a:chOff x="5430960" y="4860720"/>
                <a:chExt cx="272160" cy="277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43528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43096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497640" y="4860720"/>
                <a:ext cx="272160" cy="277920"/>
                <a:chOff x="6497640" y="4860720"/>
                <a:chExt cx="272160" cy="2779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50196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4976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430960" y="5127480"/>
              <a:ext cx="1338840" cy="277920"/>
              <a:chOff x="5430960" y="5127480"/>
              <a:chExt cx="1338840" cy="27792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6231240" y="5127480"/>
                <a:ext cx="272160" cy="277920"/>
                <a:chOff x="6231240" y="5127480"/>
                <a:chExt cx="272160" cy="2779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23556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312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964480" y="5127480"/>
                <a:ext cx="272160" cy="277920"/>
                <a:chOff x="5964480" y="5127480"/>
                <a:chExt cx="272160" cy="2779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96880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644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707080" y="5127480"/>
                <a:ext cx="272160" cy="277920"/>
                <a:chOff x="5707080" y="5127480"/>
                <a:chExt cx="272160" cy="2779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1140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070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30960" y="5127480"/>
                <a:ext cx="272160" cy="277920"/>
                <a:chOff x="5430960" y="5127480"/>
                <a:chExt cx="272160" cy="277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3528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3096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97640" y="5127480"/>
                <a:ext cx="272160" cy="277920"/>
                <a:chOff x="6497640" y="5127480"/>
                <a:chExt cx="272160" cy="277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0196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4976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5430960" y="5394240"/>
              <a:ext cx="1338840" cy="277920"/>
              <a:chOff x="5430960" y="5394240"/>
              <a:chExt cx="1338840" cy="2779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231240" y="5394240"/>
                <a:ext cx="272160" cy="277920"/>
                <a:chOff x="6231240" y="5394240"/>
                <a:chExt cx="272160" cy="277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3556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312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964480" y="5394240"/>
                <a:ext cx="272160" cy="277920"/>
                <a:chOff x="5964480" y="5394240"/>
                <a:chExt cx="272160" cy="277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96880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9644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707080" y="5394240"/>
                <a:ext cx="272160" cy="277920"/>
                <a:chOff x="5707080" y="5394240"/>
                <a:chExt cx="272160" cy="277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1140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070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30960" y="5394240"/>
                <a:ext cx="272160" cy="277920"/>
                <a:chOff x="5430960" y="5394240"/>
                <a:chExt cx="272160" cy="277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43528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3096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97640" y="5394240"/>
                <a:ext cx="272160" cy="277920"/>
                <a:chOff x="6497640" y="5394240"/>
                <a:chExt cx="272160" cy="27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0196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976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430960" y="5651280"/>
              <a:ext cx="1338840" cy="277920"/>
              <a:chOff x="5430960" y="5651280"/>
              <a:chExt cx="1338840" cy="277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6231240" y="5651280"/>
                <a:ext cx="272160" cy="277920"/>
                <a:chOff x="6231240" y="5651280"/>
                <a:chExt cx="272160" cy="277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23556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312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964480" y="5651280"/>
                <a:ext cx="272160" cy="277920"/>
                <a:chOff x="5964480" y="5651280"/>
                <a:chExt cx="272160" cy="277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6880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9644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707080" y="5651280"/>
                <a:ext cx="272160" cy="277920"/>
                <a:chOff x="5707080" y="5651280"/>
                <a:chExt cx="272160" cy="2779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1140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7070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30960" y="5651280"/>
                <a:ext cx="272160" cy="277920"/>
                <a:chOff x="5430960" y="5651280"/>
                <a:chExt cx="272160" cy="277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3528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096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97640" y="5651280"/>
                <a:ext cx="272160" cy="277920"/>
                <a:chOff x="6497640" y="5651280"/>
                <a:chExt cx="272160" cy="2779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50196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976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5421600" y="4834080"/>
            <a:ext cx="280800" cy="283680"/>
            <a:chOff x="5421600" y="4834080"/>
            <a:chExt cx="280800" cy="283680"/>
          </a:xfrm>
        </p:grpSpPr>
        <p:sp>
          <p:nvSpPr>
            <p:cNvPr id="389" name=""/>
            <p:cNvSpPr/>
            <p:nvPr/>
          </p:nvSpPr>
          <p:spPr>
            <a:xfrm>
              <a:off x="5435640" y="48513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21600" y="4834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21600" y="5367240"/>
            <a:ext cx="280800" cy="284400"/>
            <a:chOff x="5421600" y="5367240"/>
            <a:chExt cx="280800" cy="284400"/>
          </a:xfrm>
        </p:grpSpPr>
        <p:sp>
          <p:nvSpPr>
            <p:cNvPr id="392" name=""/>
            <p:cNvSpPr/>
            <p:nvPr/>
          </p:nvSpPr>
          <p:spPr>
            <a:xfrm>
              <a:off x="5435640" y="5384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21600" y="5367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16840" y="4576680"/>
            <a:ext cx="280800" cy="284400"/>
            <a:chOff x="6216840" y="4576680"/>
            <a:chExt cx="280800" cy="284400"/>
          </a:xfrm>
        </p:grpSpPr>
        <p:sp>
          <p:nvSpPr>
            <p:cNvPr id="395" name=""/>
            <p:cNvSpPr/>
            <p:nvPr/>
          </p:nvSpPr>
          <p:spPr>
            <a:xfrm>
              <a:off x="6230880" y="459432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16840" y="4576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426280" y="5634000"/>
            <a:ext cx="280800" cy="283680"/>
            <a:chOff x="5426280" y="5634000"/>
            <a:chExt cx="280800" cy="283680"/>
          </a:xfrm>
        </p:grpSpPr>
        <p:sp>
          <p:nvSpPr>
            <p:cNvPr id="398" name=""/>
            <p:cNvSpPr/>
            <p:nvPr/>
          </p:nvSpPr>
          <p:spPr>
            <a:xfrm>
              <a:off x="544032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2628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21600" y="5105520"/>
            <a:ext cx="280800" cy="283680"/>
            <a:chOff x="5421600" y="5105520"/>
            <a:chExt cx="280800" cy="283680"/>
          </a:xfrm>
        </p:grpSpPr>
        <p:sp>
          <p:nvSpPr>
            <p:cNvPr id="401" name=""/>
            <p:cNvSpPr/>
            <p:nvPr/>
          </p:nvSpPr>
          <p:spPr>
            <a:xfrm>
              <a:off x="5435640" y="51228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1600" y="510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216840" y="5634000"/>
            <a:ext cx="280800" cy="283680"/>
            <a:chOff x="6216840" y="5634000"/>
            <a:chExt cx="280800" cy="283680"/>
          </a:xfrm>
        </p:grpSpPr>
        <p:sp>
          <p:nvSpPr>
            <p:cNvPr id="404" name=""/>
            <p:cNvSpPr/>
            <p:nvPr/>
          </p:nvSpPr>
          <p:spPr>
            <a:xfrm>
              <a:off x="623088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684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16840" y="4848120"/>
            <a:ext cx="280800" cy="284400"/>
            <a:chOff x="6216840" y="4848120"/>
            <a:chExt cx="280800" cy="284400"/>
          </a:xfrm>
        </p:grpSpPr>
        <p:sp>
          <p:nvSpPr>
            <p:cNvPr id="407" name=""/>
            <p:cNvSpPr/>
            <p:nvPr/>
          </p:nvSpPr>
          <p:spPr>
            <a:xfrm>
              <a:off x="6230880" y="4865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16840" y="4848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12160" y="4586400"/>
            <a:ext cx="280800" cy="283680"/>
            <a:chOff x="6212160" y="4586400"/>
            <a:chExt cx="280800" cy="283680"/>
          </a:xfrm>
        </p:grpSpPr>
        <p:sp>
          <p:nvSpPr>
            <p:cNvPr id="410" name=""/>
            <p:cNvSpPr/>
            <p:nvPr/>
          </p:nvSpPr>
          <p:spPr>
            <a:xfrm>
              <a:off x="6226200" y="46036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12160" y="4586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6F62-1C13-4A58-9CBB-2814565E44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4098 E">
                                      <p:cBhvr>
                                        <p:cTn id="107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382 E">
                                      <p:cBhvr>
                                        <p:cTn id="11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1.11111E-006 0.0382 E">
                                      <p:cBhvr>
                                        <p:cTn id="131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0069 L 0.03941 -0.04098 C 0.04844 -0.04954 0.05347 -0.06273 0.05347 -0.07616 C 0.05347 -0.09167 0.04844 -0.10417 0.03941 -0.11273 L 2.77778E-007 -0.15417 E">
                                      <p:cBhvr>
                                        <p:cTn id="139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pair “OP” forms two corners of an imaginary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replaced b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on the o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rs “T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415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5" name=""/>
          <p:cNvGrpSpPr/>
          <p:nvPr/>
        </p:nvGrpSpPr>
        <p:grpSpPr>
          <a:xfrm>
            <a:off x="6221520" y="4816440"/>
            <a:ext cx="280800" cy="283680"/>
            <a:chOff x="6221520" y="4816440"/>
            <a:chExt cx="280800" cy="283680"/>
          </a:xfrm>
        </p:grpSpPr>
        <p:sp>
          <p:nvSpPr>
            <p:cNvPr id="496" name=""/>
            <p:cNvSpPr/>
            <p:nvPr/>
          </p:nvSpPr>
          <p:spPr>
            <a:xfrm>
              <a:off x="623556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152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93040" y="4021200"/>
            <a:ext cx="280800" cy="283680"/>
            <a:chOff x="5693040" y="4021200"/>
            <a:chExt cx="280800" cy="283680"/>
          </a:xfrm>
        </p:grpSpPr>
        <p:sp>
          <p:nvSpPr>
            <p:cNvPr id="499" name=""/>
            <p:cNvSpPr/>
            <p:nvPr/>
          </p:nvSpPr>
          <p:spPr>
            <a:xfrm>
              <a:off x="5707080" y="40384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9304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829480" y="4162320"/>
            <a:ext cx="547560" cy="82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226560" y="4021200"/>
            <a:ext cx="280080" cy="283680"/>
            <a:chOff x="6226560" y="4021200"/>
            <a:chExt cx="280080" cy="283680"/>
          </a:xfrm>
        </p:grpSpPr>
        <p:sp>
          <p:nvSpPr>
            <p:cNvPr id="503" name=""/>
            <p:cNvSpPr/>
            <p:nvPr/>
          </p:nvSpPr>
          <p:spPr>
            <a:xfrm>
              <a:off x="6240240" y="403848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2656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693040" y="4816440"/>
            <a:ext cx="280800" cy="283680"/>
            <a:chOff x="5693040" y="4816440"/>
            <a:chExt cx="280800" cy="283680"/>
          </a:xfrm>
        </p:grpSpPr>
        <p:sp>
          <p:nvSpPr>
            <p:cNvPr id="506" name=""/>
            <p:cNvSpPr/>
            <p:nvPr/>
          </p:nvSpPr>
          <p:spPr>
            <a:xfrm>
              <a:off x="570708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9304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77556-4DCF-4480-A124-65C1168996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5729 -4.44444E-006 E">
                                      <p:cBhvr>
                                        <p:cTn id="170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5573 3.33333E-006 E">
                                      <p:cBhvr>
                                        <p:cTn id="172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will implement playfa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00320" y="3009960"/>
            <a:ext cx="4219560" cy="3633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13440" y="3022560"/>
            <a:ext cx="118260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4520" y="2679840"/>
            <a:ext cx="1182600" cy="452160"/>
          </a:xfrm>
          <a:prstGeom prst="wedgeRoundRectCallout">
            <a:avLst>
              <a:gd name="adj1" fmla="val -43689"/>
              <a:gd name="adj2" fmla="val 903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D2D5-1360-4C73-BC64-83B3A60AF0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6T01:48:04Z</dcterms:modified>
  <cp:revision>69</cp:revision>
  <dc:subject/>
  <dc:title>CAP Cryptographic Analysis Program</dc:title>
</cp:coreProperties>
</file>